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FEB4-EA15-438D-86C4-A1C4A3DFF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2E20-7D58-44D4-AE0D-8F87E9FC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7FF-1504-4FD3-9237-83061D14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559A-487A-4E3A-B9A4-9FACFE46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A00A-6A30-4C89-91A9-C817DA61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97BC-E157-4A4A-BBC6-44608E4F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F658-092D-443E-8D0F-25CFF4BF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A309-7CE0-4A99-9CC9-2A588782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0057-7882-4B69-AB12-5F56FD6D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30BE-3B8C-4000-9E9E-2B9393CF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FF98-81D7-43C7-A11D-D34B6066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825D-DF82-4174-94D2-17CB9C59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93E4-9BC9-4398-A681-C4D91A08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6777-6E00-431D-A9A3-B6BE4491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0A0A-73D2-4983-B4BE-463546A1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69D9-0960-47FA-BD61-D5931DFB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77FD-9476-4E99-89E0-21F52E66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D33D-3D34-4D16-BB1C-B37C41D5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3353-4DA5-45A8-BF3E-6EF3F5FB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EFE3-EC4C-4C82-82C3-6BCE6D78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3E35-6A5D-4752-9FB6-D753A0FA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D840-ED19-48D4-829B-2268600D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F654-9833-441C-8482-C0FF7B57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2190-9823-4D52-8885-1095F812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723A-FA54-4370-91D2-821B7F148A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6A64-FAD1-4E30-9E9F-58C680193F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A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OCABULAR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ÁGINA 25 (1-2) Y 3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962440" cy="453060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TRUÍSTA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NERO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NTERESAD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ADIVO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BNEGAD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PRENDID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RRELACIÓN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RRESPONDENC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REDADOR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ZADO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RICTO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IGUROS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HIBIENDO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STRAND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SUADIR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BLIGA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1168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 DOQUIER=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R TODAS PAR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35280" y="1628640"/>
            <a:ext cx="5329440" cy="445464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CTÁREA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MEDIDA DE CIEN ÁRE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LIOMOTO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TRANSFORMA LA ENERGÍA SOLAR EN MECÁNIC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MICICL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MITAD DEL CÍRCUL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MORRAGIA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PÉRDIDA GRANDE DE SANG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EXAEDRO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CUERPO LIMITADO POR SEIS CAR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IDROAVIÓ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AVIÓN QUE PUEDE POSARSE SOBRE EL AGU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IPERHIDROSI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SUDORACIÓN EXCESIV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IPOGLUCEMIA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NIVEL BAJO DE AZUCAR EN SANG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HOMOGÉNE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CONJUNTO FORMADO POR ELEMENTOS IGUA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6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6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6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6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6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6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6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6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6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21:27:02Z</dcterms:created>
  <dc:creator>AUDIOLEASK</dc:creator>
  <dc:description/>
  <dc:language>en-US</dc:language>
  <cp:lastModifiedBy>AUDIOLEASK</cp:lastModifiedBy>
  <dcterms:modified xsi:type="dcterms:W3CDTF">2013-11-10T21:46:40Z</dcterms:modified>
  <cp:revision>2</cp:revision>
  <dc:subject/>
  <dc:title>TEMA 2</dc:title>
</cp:coreProperties>
</file>